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1981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1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2209680" y="239760"/>
            <a:ext cx="4724640" cy="63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1981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11.3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03480" y="239760"/>
            <a:ext cx="6737040" cy="63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1981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11.3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434960" y="233280"/>
            <a:ext cx="6274080" cy="63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1981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11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230480" y="239760"/>
            <a:ext cx="6681600" cy="63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1981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11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27280" y="239760"/>
            <a:ext cx="5688000" cy="63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1981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11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833480" y="239760"/>
            <a:ext cx="5475240" cy="63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1981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le 1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03120" y="1316160"/>
            <a:ext cx="8535960" cy="42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1981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le 1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663560" y="239760"/>
            <a:ext cx="5816880" cy="63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1981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11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03120" y="498600"/>
            <a:ext cx="8535960" cy="58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1981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11.7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03120" y="1644480"/>
            <a:ext cx="853596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1981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11.7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03120" y="1782720"/>
            <a:ext cx="853596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1981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11.1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19360" y="239760"/>
            <a:ext cx="5736960" cy="63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1981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11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3120" y="785880"/>
            <a:ext cx="853596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1981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11.8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135080" y="233280"/>
            <a:ext cx="6872400" cy="63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1981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11.8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135080" y="233280"/>
            <a:ext cx="6872400" cy="63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1981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11.8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135080" y="233280"/>
            <a:ext cx="6872400" cy="63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1981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11.8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130400" y="233280"/>
            <a:ext cx="6883200" cy="63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1981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11.8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135080" y="233280"/>
            <a:ext cx="6872400" cy="63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1981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le 11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442880" y="239760"/>
            <a:ext cx="6256440" cy="63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1981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11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03120" y="639720"/>
            <a:ext cx="853596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1981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11.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03120" y="600120"/>
            <a:ext cx="853596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1981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11.1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3120" y="444600"/>
            <a:ext cx="8535960" cy="59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1981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11.1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3120" y="639720"/>
            <a:ext cx="853596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1981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1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3120" y="2014560"/>
            <a:ext cx="853596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1981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11.2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879560" y="236520"/>
            <a:ext cx="5383080" cy="638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1981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11.2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935000" y="236520"/>
            <a:ext cx="5274000" cy="638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1981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11.2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07960" y="236520"/>
            <a:ext cx="8128080" cy="638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1981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11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03120" y="1306440"/>
            <a:ext cx="8535960" cy="42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21:42:59Z</dcterms:created>
  <dc:creator>System_70</dc:creator>
  <dc:description/>
  <dc:language>en-US</dc:language>
  <cp:lastModifiedBy>System 89</cp:lastModifiedBy>
  <cp:lastPrinted>2005-12-13T16:18:07Z</cp:lastPrinted>
  <dcterms:modified xsi:type="dcterms:W3CDTF">2006-03-30T13:56:26Z</dcterms:modified>
  <cp:revision>47</cp:revision>
  <dc:subject/>
  <dc:title>LE 01-10b</dc:title>
</cp:coreProperties>
</file>